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A12-08FF-40D3-82CE-8A3ACE6F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76A-3949-480F-80E1-CCB9A4D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CBC-CFC1-4C89-A07C-DB80E2F3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545-980E-405A-B63C-166E83BB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B58-2839-41FB-94BF-AD2159D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5AD-615E-4559-9C80-BBEB424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C26-A1B7-408A-82D8-12D7846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36B-9EB2-4101-B0F3-5609D67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16E-6D43-4C73-8F8A-C8A95F0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622-A19A-43C1-BB3B-0925FD3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159-C448-44C3-8B69-5C4FD5A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8ED-B2D8-43D0-9051-08E2DA5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4478-860F-42A0-B18F-BF528377D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685800"/>
            <a:ext cx="6324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your Class Rosters and Gradebook o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32280"/>
            <a:ext cx="9144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145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572000"/>
            <a:ext cx="3962160" cy="1564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time now to write down the drive name, the school number, and your teacher 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 Name:  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Folder #:  ___ Teacher Folder #:  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00200"/>
            <a:ext cx="2971800" cy="442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are now asked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ort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op down the menu and choose the networked drive entitl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on Fs-xxx-1\Vol1\Apps|Ig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here xxx is a 3 letter school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   Open the numbered school folder  then your numbered teacher f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  Choose the file Cl ###   Click Open (where ## is your teac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30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96216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4:07:05Z</dcterms:created>
  <dc:creator>Anne Higman</dc:creator>
  <dc:description/>
  <dc:language>en-US</dc:language>
  <cp:lastModifiedBy>Anne Higman</cp:lastModifiedBy>
  <dcterms:modified xsi:type="dcterms:W3CDTF">2006-11-21T14:07:16Z</dcterms:modified>
  <cp:revision>1</cp:revision>
  <dc:subject/>
  <dc:title>Slide 1</dc:title>
</cp:coreProperties>
</file>